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869-D226-4186-A012-57F8F521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9AA-A3E5-4B7C-ADAA-DE2D4F3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EFB-CB25-4858-B2AC-F150C115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AE5-26A8-43C3-90FE-FBC36A4A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AEF-BA16-4594-90CD-4EBFDDC7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0BF5-2399-49C4-B6C2-DF7B325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3B4C-C29B-4C9F-9B3A-C37BF0E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4842-B1BE-41D1-846A-A32C9CF1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F452-2BC0-45B1-B582-CB4B2F08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12B-9457-4A50-875F-4C799F9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C63D-F184-4A7C-BFFB-982079D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D2C-2A0C-425C-BBEC-490D6A0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ECD-4BC6-4695-8C5F-E3510D7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B1D6-055F-4A0A-9D2A-CDE61D66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5553-3791-447A-AD94-87625116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02B1-F36A-45C0-8693-078EE35A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0C4-3B4D-4F85-8BE2-FD0EB40B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196-1EE3-4983-A667-CF718C9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3B0-48BD-4637-BC34-5D63FB3A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0A8-5F8D-4CAC-A8C1-88C1FD30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D50-AE2B-44E6-9052-969C309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6A2-2BA7-43DD-B4CD-FB5C45C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B6D-8EEB-4B08-B868-345257E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5A0-78ED-4FA4-92F2-BE32741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47B4-ECB6-4D12-B6F3-6796C6C6CB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90BE-A2F8-458C-ABA0-A57A960FA0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Do Now 8-25-2010</a:t>
            </a:r>
            <a:br>
              <a:rPr sz="4300"/>
            </a:b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I can use reading strategies and respond critically to literature by using text evidence.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SWER THE FOLLOWING QUESTION IN COMPLETE SENTEN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Verdana"/>
              </a:rPr>
              <a:t>When you read, what do you do in order to comprehend text? 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ading Strategy Jigsa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your partner, read the passage and do what the slip of paper instructs you to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finish the task on your paper, talk with your partner about what you think the author is implying.  In other word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hat message is the author trying to get acro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dependent Read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rules of Reading Workshop as you read independen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today you will practice writing a response on the wiki.  Think about 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will practice.  Maybe use post-it notes to hold your thin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 Response Practi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link titled “Homework Discussion Response Practice,” practice writing a response based on your OWN INDEPENDENT READING BOOK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any strate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outline and examples I gave you to guide your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1:09:30Z</dcterms:created>
  <dc:creator>Administrator</dc:creator>
  <dc:description/>
  <dc:language>en-US</dc:language>
  <cp:lastModifiedBy>Administrator</cp:lastModifiedBy>
  <dcterms:modified xsi:type="dcterms:W3CDTF">2010-08-25T02:58:16Z</dcterms:modified>
  <cp:revision>2</cp:revision>
  <dc:subject/>
  <dc:title>Do Now 8-25-2010 I can use reading strategies and respond critically to literature by using text evidence.</dc:title>
</cp:coreProperties>
</file>